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17A-0011-4F1D-98C6-7F691A4C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146-9821-4971-A427-F88CDC4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D31-3720-4F48-8C22-0A272519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0B6-F3F2-42F6-A670-AF77E545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FB8-7A85-4AE4-A91A-936652B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BBE-33AD-4484-8C52-597D2E8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C86-EB86-4A5B-BE70-F83D223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494-56C2-4D05-B1E2-A70DF2C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696-541E-4AF4-BCDE-A7E7D6D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C0C-1CF3-4B6C-A188-430BCD1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C3D-6861-4EFB-B085-BFA89281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A1E-174D-4DE3-ABAF-5C26635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42F6-C53A-4FAE-8661-495B154E06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нализ типичных затруднений выпускников при выполнении заданий  ЕГЭ-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ЛЕПИНА И.А, учитель русского языка и литературы МАОУ «Гимназия №1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 «город Бугурусла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https://avatars.mds.yandex.net/i?id=b2706cde00b679f110ab94a535c1cbbdc627b1a6-4080017-images-thumbs&amp;n=13"/>
          <p:cNvPicPr/>
          <p:nvPr/>
        </p:nvPicPr>
        <p:blipFill>
          <a:blip r:embed="rId1"/>
          <a:stretch/>
        </p:blipFill>
        <p:spPr>
          <a:xfrm>
            <a:off x="76320" y="85680"/>
            <a:ext cx="4572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19320"/>
          <a:ext cx="8229600" cy="297180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 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219320"/>
          <a:ext cx="8229600" cy="472428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терий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ая 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фогра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нкту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евые нор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9:23Z</dcterms:created>
  <dc:creator>Татьяна</dc:creator>
  <dc:description/>
  <dc:language>en-US</dc:language>
  <cp:lastModifiedBy>User</cp:lastModifiedBy>
  <dcterms:modified xsi:type="dcterms:W3CDTF">2025-10-13T16:02:40Z</dcterms:modified>
  <cp:revision>65</cp:revision>
  <dc:subject/>
  <dc:title>Технология педагогических мастерских</dc:title>
</cp:coreProperties>
</file>